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4CD-B874-4AAA-BCB0-98E54001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BCE-631C-46AE-9EDB-43B66110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CFC-535B-4DE9-9251-41CC8AD5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4CD-0B88-4F0D-95EC-493EA2E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D1F-314F-41B0-BD34-FFCF683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C2E-117A-4D9D-A0E1-1AB325B0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2DA-56AB-48E7-A2F3-5442C9D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64F-8BC6-44B6-BA5A-46FA4071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BE9-D0F7-47AD-8262-E1FF0BF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722-B6D9-466A-B33C-11C0AE6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02E-4D59-46AF-B411-077DC83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8B6-9789-455A-B4DD-2753C06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56F6-D19D-4746-9662-A5186F45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61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lucose solution- concentration of [20 g/L ] this is our carbon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h level-7.0 (range of 6.6-7.2) level kept by automatic addition of 2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02-by air compressor, then cooled and filtered then pumped into fermentor, must be at least 10% of atmospheric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alinity- concentration of [ 17.8 g/L ] will use instant ocean purchased from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emperature- 27C maintained by coils inside and outside of fermentor (range 20-30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Yeast Extract- [ 2 g/L ] purchased from Ethanol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 is finding out if we can use whole yeast from Ethanol plant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olysaccharide solvent- to keep viscosity of broth at a minimum especially during stationary phase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purchase this from Glucan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1:26:55Z</dcterms:created>
  <dc:creator>xplabpc</dc:creator>
  <dc:description/>
  <dc:language>en-US</dc:language>
  <cp:lastModifiedBy>xplabpc</cp:lastModifiedBy>
  <dcterms:modified xsi:type="dcterms:W3CDTF">2010-02-05T23:12:04Z</dcterms:modified>
  <cp:revision>2</cp:revision>
  <dc:subject/>
  <dc:title>Fermentation Medium</dc:title>
</cp:coreProperties>
</file>